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038-02F6-4F0D-BF8B-06A01DD8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F35-852C-4420-B85B-A597322A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3C9-F4CD-4FD5-B76F-DB1DA2C6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1470-F085-4C89-9970-B9A21306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8BE-677D-4F63-B447-56AA075E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336-4FE3-49BF-ACA0-4B720AA5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46E-18BE-4978-A95A-590456CF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6495-FA00-49A3-A6C4-09AB221F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251-D8A0-4F9E-B739-9FE7099A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627-C336-4649-9080-1839BE8D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64A-EF2E-4F42-A776-272B9A4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698-566B-408D-A5BA-EF263C6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D52D-1BDB-47CB-81E5-7D70B68CF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828720" y="171360"/>
            <a:ext cx="7772400" cy="257184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2357280" y="2459160"/>
            <a:ext cx="4429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festival.1september.ru/articles/519398/img1.jpg"/>
          <p:cNvPicPr/>
          <p:nvPr/>
        </p:nvPicPr>
        <p:blipFill>
          <a:blip r:embed="rId2"/>
          <a:stretch/>
        </p:blipFill>
        <p:spPr>
          <a:xfrm>
            <a:off x="2828880" y="2835360"/>
            <a:ext cx="3816360" cy="4022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Деление окружности на 2  </a:t>
            </a:r>
            <a:br>
              <a:rPr sz="4400"/>
            </a:b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равные ча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разделить круг на две одинаковые части достаточно провести диаметр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Овал 4"/>
          <p:cNvSpPr/>
          <p:nvPr/>
        </p:nvSpPr>
        <p:spPr>
          <a:xfrm>
            <a:off x="611280" y="3179880"/>
            <a:ext cx="158436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7"/>
          <p:cNvSpPr/>
          <p:nvPr/>
        </p:nvSpPr>
        <p:spPr>
          <a:xfrm>
            <a:off x="2998800" y="3179880"/>
            <a:ext cx="1501920" cy="172872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9"/>
          <p:cNvSpPr/>
          <p:nvPr/>
        </p:nvSpPr>
        <p:spPr>
          <a:xfrm>
            <a:off x="2998800" y="4043520"/>
            <a:ext cx="15019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2120760" y="2206800"/>
            <a:ext cx="4035600" cy="374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714240" y="1428840"/>
            <a:ext cx="79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сти с помощью чертежного угольника два диаметра с прямым углом (занятие за 17-18 ноября) отметить на окружности  точки 1. 2. 3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готовление ребристого ш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3413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и рисунок готового ребристого шара. Какие фигуры ипользованы для его изготовления? (кру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черти на листе цветной бумаги 4 круга радиусом 3 см и проведи в каждом диаметр. Все линии проводим на белой стороне лис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режи круги. Вырезая помни ,что: линии должны оставаться на вырезаемых деталях; бумагу следует поворачивать по часовой стрелке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аждый полукруг назови буквой как показано на рисунк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Объект 6" descr=""/>
          <p:cNvPicPr/>
          <p:nvPr/>
        </p:nvPicPr>
        <p:blipFill>
          <a:blip r:embed="rId1"/>
          <a:stretch/>
        </p:blipFill>
        <p:spPr>
          <a:xfrm>
            <a:off x="189000" y="5084640"/>
            <a:ext cx="7851600" cy="1773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аждый круг перегни по диаметр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Полукруги сложи одинаковыми буквами друг к другу и склей их .При этом не забудь вклеить нить, чтобы шар можно было повеси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Если тоже самое сделать с бОльшим количеством кругов,то шар будет смотреться пышне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46200" y="4221000"/>
            <a:ext cx="7851600" cy="1884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0:28:22Z</dcterms:created>
  <dc:creator>Admin</dc:creator>
  <dc:description/>
  <dc:language>en-US</dc:language>
  <cp:lastModifiedBy>Учитель</cp:lastModifiedBy>
  <dcterms:modified xsi:type="dcterms:W3CDTF">2020-12-09T09:07:40Z</dcterms:modified>
  <cp:revision>34</cp:revision>
  <dc:subject/>
  <dc:title>Деление окружности</dc:title>
</cp:coreProperties>
</file>